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6ECAFB-D8BF-414E-9ECE-055396090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5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75296F-4190-4D17-A32B-82A848B5EAB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6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2F19A1-7E61-416E-9AAB-6F555E5B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7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042A29-A1CB-4C3D-97E9-C7D2D41FE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BC2F53-CD8C-46CC-803A-9010E494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C97930-4580-476B-BE9B-4DF4000FE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C76FA8-CB22-4480-83BD-5C63D21D9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21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D9FC2F-68BA-437C-8E7B-A5604AB88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12E-BAA7-4A34-A224-DB3FCAA6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136-E229-4927-A48D-44CFCBE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0EF-899C-451A-AA03-A9D233E0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393-6322-4FAD-A2F6-E247839E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F054-743A-451A-BBA5-9F414BAB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2850-E848-496A-AAE0-95796308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E8B1-EE84-490E-B00B-19D1F119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3034-E2F2-488E-9EBE-96F1556F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D28F-5EF2-47DF-8652-7339907D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7F11-B0A6-40F4-92DD-9B2CD19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B0C0-5375-487A-8F09-2EC5283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F79-D13A-49A7-8127-1306AA12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AF9-7BB3-45BD-B1F9-5C78F45B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E14E-8EB4-4FAB-A002-17B45AE7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7383-4AD7-410F-9E96-D0509001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3A46-1FA7-4DC7-9E97-43BC2040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91A1-5C6E-4833-A2FF-6BB57AC9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37D-5297-4F94-8967-D6B6ADFB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4AD-02F5-4428-A742-0D14DDF4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9DD-B1EB-4C72-A647-330124D6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601-4CFA-4420-B637-FC557D8A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649-07BC-4766-AFBE-875CB749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3D3-1ED0-4CDA-9D00-D4B24E1E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EF3-C624-40D0-B0B3-5099C49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C1D59C-3B90-4252-81B9-9F0EEBB89B6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041CCC-3C0F-4730-84D3-85F01B8F5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aculty.chicagobooth.edu/anil.kashyap/" TargetMode="External"/><Relationship Id="rId2" Type="http://schemas.openxmlformats.org/officeDocument/2006/relationships/hyperlink" Target="http://faculty.chicagobooth.edu/anil.kashyap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152280"/>
            <a:ext cx="8686440" cy="65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Banking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l K Kashy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faculty.chicagobooth.edu/anil.kashya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2,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take on th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questions that result from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fied model for bank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izing and calibrating regulator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stress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about run prone business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LOGOs_430+202_just_110508.png"/>
          <p:cNvPicPr/>
          <p:nvPr/>
        </p:nvPicPr>
        <p:blipFill>
          <a:blip r:embed="rId3"/>
          <a:stretch/>
        </p:blipFill>
        <p:spPr>
          <a:xfrm>
            <a:off x="3581280" y="6248520"/>
            <a:ext cx="1980720" cy="54108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63D-C60F-442B-AF48-40B70C86A5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nent 1 of the crisis: Ru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3815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isis featured 5 non-traditional runs that mostly caught us by surpr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 (specifically regarding Bear Stear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C custo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 Brokerage custom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M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FA074A-E681-4B08-BC8C-C73138BCA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LOGOs_430+202_just_110508.png"/>
          <p:cNvPicPr/>
          <p:nvPr/>
        </p:nvPicPr>
        <p:blipFill>
          <a:blip r:embed="rId1"/>
          <a:stretch/>
        </p:blipFill>
        <p:spPr>
          <a:xfrm>
            <a:off x="3581280" y="6248520"/>
            <a:ext cx="1980720" cy="5410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94" name="Object 1"/>
          <p:cNvGraphicFramePr/>
          <p:nvPr/>
        </p:nvGraphicFramePr>
        <p:xfrm>
          <a:off x="4514760" y="3340080"/>
          <a:ext cx="114120" cy="17748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9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40080"/>
                    <a:ext cx="11412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8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nent 2 of the crisis: Delever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10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veraging is critical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s the amplification of the initial subprime 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s the pervasive fire sales in fall 20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ch: it has something to do with the slow recovery, from both the household side and the corporate s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echanism that explains Reinhart-Rogof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2DF299-2E46-4D46-927E-37EABEC3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LOGOs_430+202_just_110508.png"/>
          <p:cNvPicPr/>
          <p:nvPr/>
        </p:nvPicPr>
        <p:blipFill>
          <a:blip r:embed="rId1"/>
          <a:stretch/>
        </p:blipFill>
        <p:spPr>
          <a:xfrm>
            <a:off x="3581280" y="6248520"/>
            <a:ext cx="1980720" cy="5410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0" name="Object 1"/>
          <p:cNvGraphicFramePr/>
          <p:nvPr/>
        </p:nvGraphicFramePr>
        <p:xfrm>
          <a:off x="4514760" y="3340080"/>
          <a:ext cx="114120" cy="177480"/>
        </p:xfrm>
        <a:graphic>
          <a:graphicData uri="http://schemas.openxmlformats.org/presentationml/2006/ole">
            <p:oleObj progId="Equation.DSMT4" r:id="rId2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40080"/>
                    <a:ext cx="11412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: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ight model for nesting fire sales, deleveraging and defa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answer is that work on financial frictions ought concentrate on “credit supply” problems, but that still leaves lots of unanswered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LOGOs_430+202_just_110508.png"/>
          <p:cNvPicPr/>
          <p:nvPr/>
        </p:nvPicPr>
        <p:blipFill>
          <a:blip r:embed="rId1"/>
          <a:stretch/>
        </p:blipFill>
        <p:spPr>
          <a:xfrm>
            <a:off x="3581280" y="6248520"/>
            <a:ext cx="1980720" cy="5410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F99F-4E81-4E66-A87F-B0E8306516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: Regulatory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34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pick between capital, liquidity, loan to value, debt to income, haircuts/margins, dynamic provisioning, deposit insurance, tax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bundles work best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calibrate the sett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provisional answer: think about markets channels through which tools operate, not the agents on which they bind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3FE8E8-BDC7-4A8B-AD74-4F59E783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LOGOs_430+202_just_110508.png"/>
          <p:cNvPicPr/>
          <p:nvPr/>
        </p:nvPicPr>
        <p:blipFill>
          <a:blip r:embed="rId1"/>
          <a:stretch/>
        </p:blipFill>
        <p:spPr>
          <a:xfrm>
            <a:off x="3581280" y="6248520"/>
            <a:ext cx="1980720" cy="54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: Stress Tes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815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the SCAP lucky or best practice?  US banks raised equity, Europeans have not. Wh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olved asymmetric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blic backstop in the US was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Dodd’s threat of restricting p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provisional answer, definitely not asymmetr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1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788E85-7DBF-445F-931E-03F3D92D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LOGOs_430+202_just_110508.png"/>
          <p:cNvPicPr/>
          <p:nvPr/>
        </p:nvPicPr>
        <p:blipFill>
          <a:blip r:embed="rId1"/>
          <a:stretch/>
        </p:blipFill>
        <p:spPr>
          <a:xfrm>
            <a:off x="3581280" y="6248520"/>
            <a:ext cx="1980720" cy="54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8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4: Broken Business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815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regulation has gotten bogged down tackling run prone busines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MFs (a well funded men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 Brok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Fs need capital or variable 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 Brokerage is harder to fix, what is the social value of collateral (and do we have enough safe assets)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46E89B-4AEA-42C5-A89D-D65458E97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LOGOs_430+202_just_110508.png"/>
          <p:cNvPicPr/>
          <p:nvPr/>
        </p:nvPicPr>
        <p:blipFill>
          <a:blip r:embed="rId1"/>
          <a:stretch/>
        </p:blipFill>
        <p:spPr>
          <a:xfrm>
            <a:off x="3581280" y="6248520"/>
            <a:ext cx="1980720" cy="54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6</TotalTime>
  <Application>LibreOffice/7.4.7.2$Linux_X86_64 LibreOffice_project/40$Build-2</Application>
  <AppVersion>15.0000</AppVersion>
  <Words>375</Words>
  <Paragraphs>64</Paragraphs>
  <Company>University of Chicag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2:23:51Z</dcterms:created>
  <dc:creator>Kashyap, Anil</dc:creator>
  <dc:description/>
  <dc:language>en-US</dc:language>
  <cp:lastModifiedBy>Kashyap, Anil</cp:lastModifiedBy>
  <cp:lastPrinted>2012-07-09T21:42:32Z</cp:lastPrinted>
  <dcterms:modified xsi:type="dcterms:W3CDTF">2012-07-10T13:47:05Z</dcterms:modified>
  <cp:revision>1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On-screen Show (4:3)</vt:lpwstr>
  </property>
  <property fmtid="{D5CDD505-2E9C-101B-9397-08002B2CF9AE}" pid="4" name="Slides">
    <vt:r8>7</vt:r8>
  </property>
</Properties>
</file>